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8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7.jpeg" ContentType="image/jpeg"/>
  <Override PartName="/ppt/media/image28.jpeg" ContentType="image/jpeg"/>
  <Override PartName="/ppt/media/image34.jpeg" ContentType="image/jpeg"/>
  <Override PartName="/ppt/media/image11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31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6.png" ContentType="image/png"/>
  <Override PartName="/ppt/media/image3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3E9D-6B5A-4A36-A690-1D98FFF6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0147-3692-423B-9A4C-C18AF911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9655-2A10-485C-ABAF-33BD9A6E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AA77-4728-4E83-A114-2DBFBB43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C9B1-A334-44A7-A70C-E6EE238C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5A30-6FC0-45E1-9749-CBC9C49C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B2F1-2485-40A3-9F58-DC683358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0564-5809-477D-BC26-44C11879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3B8C-8767-48CC-9E2F-8E217E0C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9ECF-53C2-43B4-B3DF-4F71D8D3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1825-61A8-4B3E-BE0A-9980CF46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087E-E13C-4961-8B13-5543E40B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CB93-8AD9-480E-8E61-86B6FD20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1000-9E30-449F-8C4B-BAAE78CF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82BD-97C2-4DB2-9B04-0AD09B15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3BFA-25F7-4398-8570-E6319776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53B7-9BA4-4AEC-8605-5F45F68D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2F2C-7A4A-456C-878F-3AE7AC07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4A15-E8D8-40C4-9978-90E07CD3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5477-96C6-45BF-8FD2-6261B583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D88E-A007-4A10-B8F1-27E782DB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8DD8-62FF-4C58-8361-B22D644B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1B87-511B-4DBC-8D2F-AAFC7FE1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0C2B-7E2A-461E-8A6F-D81837EC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AE16-CCA1-4FFD-928C-14787DEBD9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D96E-A263-4C2D-9CE7-6622A9D913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7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aleontology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or ‘Study of Fossils’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4114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perspectives on Foss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become a fossil without really tr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52640" y="1599840"/>
            <a:ext cx="4033800" cy="4530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37562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61092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ere Fossils Occu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most Exclusively in Sedimentary R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t of Melting or Metamorphism Would Destroy Almost Every Type of Fossi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re Excep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Fossils in Low-grade Metamorphic R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es Buried by Lava Flo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Be Preserved, Organisms Have to B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ied Rapidly After Dea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rved From Deca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pple Marks, Bay Bea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Mvc-359f" descr=""/>
          <p:cNvPicPr/>
          <p:nvPr/>
        </p:nvPicPr>
        <p:blipFill>
          <a:blip r:embed="rId1"/>
          <a:stretch/>
        </p:blipFill>
        <p:spPr>
          <a:xfrm>
            <a:off x="838080" y="798480"/>
            <a:ext cx="7467840" cy="56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ssil Ripple Marks, Baraboo Ran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Mvc-360f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?-What would this observation tell a 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Mvc-359f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4952880" cy="3716280"/>
          </a:xfrm>
          <a:prstGeom prst="rect">
            <a:avLst/>
          </a:prstGeom>
          <a:ln w="0">
            <a:noFill/>
          </a:ln>
        </p:spPr>
      </p:pic>
      <p:pic>
        <p:nvPicPr>
          <p:cNvPr id="208" name="Mvc-360f" descr=""/>
          <p:cNvPicPr/>
          <p:nvPr/>
        </p:nvPicPr>
        <p:blipFill>
          <a:blip r:embed="rId2"/>
          <a:stretch/>
        </p:blipFill>
        <p:spPr>
          <a:xfrm>
            <a:off x="4114800" y="160020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562720" y="44956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ss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2895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r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rn Mud Cra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Mvc-364f" descr=""/>
          <p:cNvPicPr/>
          <p:nvPr/>
        </p:nvPicPr>
        <p:blipFill>
          <a:blip r:embed="rId1"/>
          <a:stretch/>
        </p:blipFill>
        <p:spPr>
          <a:xfrm>
            <a:off x="838080" y="798480"/>
            <a:ext cx="7467840" cy="56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ssil Mud Cracks, Virgin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Mvc-366f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7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?-What would this observation tell a 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Mvc-366f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4495680" cy="3373200"/>
          </a:xfrm>
          <a:prstGeom prst="rect">
            <a:avLst/>
          </a:prstGeom>
          <a:ln w="0">
            <a:noFill/>
          </a:ln>
        </p:spPr>
      </p:pic>
      <p:pic>
        <p:nvPicPr>
          <p:cNvPr id="217" name="Mvc-364f" descr=""/>
          <p:cNvPicPr/>
          <p:nvPr/>
        </p:nvPicPr>
        <p:blipFill>
          <a:blip r:embed="rId2"/>
          <a:stretch/>
        </p:blipFill>
        <p:spPr>
          <a:xfrm>
            <a:off x="4343400" y="1219320"/>
            <a:ext cx="4572000" cy="3430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867280" y="3733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r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3886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ss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iginal Hard Mater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200400" y="2631960"/>
            <a:ext cx="5791320" cy="3997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1920" y="277920"/>
            <a:ext cx="533412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tered Hard Tiss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2280" y="2519280"/>
            <a:ext cx="6172200" cy="42624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lds and Ca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-Explain how this happe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8153280" cy="40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onardo da Vinci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452-151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2809800" cy="3641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3757320" cy="3233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87120" y="5257800"/>
            <a:ext cx="776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onardo sketched fossils and recogniz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 as the remains of ancient lif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bon Fil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584600" y="1828800"/>
            <a:ext cx="4330800" cy="4743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335304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mb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-Explain how this happe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981080" y="1828800"/>
            <a:ext cx="5486400" cy="43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ression and Carbon fil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-Explain how this happe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676520" y="2033640"/>
            <a:ext cx="59436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bon Film - Pla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-Explain what this i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-Is it soft tissue or hard tissue and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2057400" y="2581200"/>
            <a:ext cx="5105520" cy="40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3504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ine:  </a:t>
            </a: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uperposi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4000"/>
            </a:br>
            <a:br>
              <a:rPr sz="40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ndoro Cut, Wiscons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MVC-005S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48956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772400" cy="52592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161800" y="304920"/>
            <a:ext cx="482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ating Techniqu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?-Why/how d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us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ssils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?-What do they tell u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8229600" cy="29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 of Life on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olution – appearances of new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inction – disappearances of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e in exploring for fossil fu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5105520" y="0"/>
            <a:ext cx="3733560" cy="29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mmonly Preserved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rd Parts of Organism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 Parts of Inse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ody Materi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arely Preserv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ft or Easily Decayed Parts of Organism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l Orga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i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2743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nosaur Tracks, Texa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?-This is called wha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aluxy2" descr=""/>
          <p:cNvPicPr/>
          <p:nvPr/>
        </p:nvPicPr>
        <p:blipFill>
          <a:blip r:embed="rId1"/>
          <a:stretch/>
        </p:blipFill>
        <p:spPr>
          <a:xfrm>
            <a:off x="3174840" y="304920"/>
            <a:ext cx="581688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2742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ains or traces of ancient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nes, Teeth, Shells, Tracks, Tra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 tissues – r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3657600" y="228600"/>
            <a:ext cx="3048120" cy="2425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5791320" y="457200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ssil Tree in Lava Flow, Hawa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057320" y="1438200"/>
            <a:ext cx="702936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305920" cy="593568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?-How does an organism become a fossi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311720" cy="28191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8320" y="205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burial is ess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ction from scavengers, decomposers, physical deteri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helps?  How do we re-build human for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280" y="2187720"/>
            <a:ext cx="4343400" cy="31352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876920" y="205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 or durable tissues, such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e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skele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ody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3047760" cy="22860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581280" y="304920"/>
            <a:ext cx="2217960" cy="335268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562720" y="2438280"/>
            <a:ext cx="3352680" cy="25146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2514600" y="4191120"/>
            <a:ext cx="3276720" cy="245736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304920" y="2666880"/>
            <a:ext cx="2725560" cy="27432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823680" y="136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457200"/>
            <a:ext cx="266688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457200"/>
            <a:ext cx="304920" cy="6094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25560" y="54100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ody 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248520" y="4266720"/>
            <a:ext cx="533160" cy="1219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5181480" y="5181120"/>
            <a:ext cx="91440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000" y="577548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295280" y="4800600"/>
            <a:ext cx="381240" cy="990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72200" y="228600"/>
            <a:ext cx="2362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fossils are formed from the hard parts of organism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?-What conditions favor preservati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id burial is most likely in oc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 creatures with shells are fairly easy to pre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: Marine organisms with hard parts are most likely to become foss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Preser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al shell, bone or tee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ds and Ca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fossils: burrows, tracks, tra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 T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 fil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mmified  ?-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does mummification have to do with fossil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z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3125520" cy="472464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191120" y="304920"/>
            <a:ext cx="3962160" cy="29718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3886200" y="3657600"/>
            <a:ext cx="4952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ssils can also form when organisms are preserved in resi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cks of organisms can be preserv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6T15:14:24Z</dcterms:created>
  <dc:creator>James Ebert</dc:creator>
  <dc:description/>
  <dc:language>en-US</dc:language>
  <cp:lastModifiedBy>RCCSD</cp:lastModifiedBy>
  <dcterms:modified xsi:type="dcterms:W3CDTF">2007-05-14T14:52:58Z</dcterms:modified>
  <cp:revision>60</cp:revision>
  <dc:subject/>
  <dc:title>Paleontology</dc:title>
</cp:coreProperties>
</file>